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6732-2B4C-41F5-8E02-C35FD0533F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elicit corrections post-task. The debates could be recorded / filmed for later feedback. Or each group could have a “secretary” to tak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E8D4-4A91-4785-AA2D-31BB6DEE3E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“pre-lesson” homework should take 20 – 40 mins, and learners can, of course, go at their own pace and look up as many words / phrases as they like. This could be posted on-line or on a college / school moodle for learners to access before the lesson (see “flipped learning” eg at : http://www.knewton.com/flipped-classroom/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6ECA-A579-4DF4-9B60-DF97313BCF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2 – 3 hrs: Speaking: 10 – 20 mins; Reading 10 – 20 mins; Vocabulary: 20 – 40 mins; Number work: 20 – 30 mins; Speaking: 20 – 40 mins; Writing: 30 – 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DF154-660D-45DA-95B7-77472D268D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mpare the problems they’ve listed from the reading ho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769B-29B9-47D1-A998-F411E03FF6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heck meanings in small groups / with dictionaries, and then discuss possible reasons for these problems. The teacher can monitor for errors and do post-task error cor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14C7-2158-48BA-928A-9BEC805BC4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learners have access to computers / tablets, they can read on-line. Otherwise, the teacher can print out this second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E64B-B56E-40B5-A602-EEC874A168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, guide and check understanding, especially when learners present their words to the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59EC-670F-428A-A155-07D310E850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e article for scales: http://eewiki.newint.org/index.php/The_girls_are_b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547E-FF05-4947-B01E-C92125A971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make bar charts on paper or on computers if they have ac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F8CA-A952-497A-9B98-D0ED922605D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E83-3054-48CE-B455-8B1AE289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292-CED0-4EB4-B07C-1722BA0E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F7A5-BB8B-4EE3-9D8D-1072B0F9B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3F51-09CA-411C-A3CC-053DDAE2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F231-AE12-48CB-9EDC-724B9FA6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083-456D-40B2-BBA4-ED180A47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CBC-93E5-40AF-BE3F-C148B340F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3A9-1B70-4FB1-B549-54C156D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A24-9A53-471C-8991-D921BF6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9E3-9779-4546-8D63-2FDF221A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9D3-8886-4035-A107-B523744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E90-471A-4E81-BA88-1FD2C52D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B3CD-F1BB-4091-AFA7-12DB24D4B0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girl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408720" cy="194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No girl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UPPER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898989"/>
                </a:solidFill>
                <a:latin typeface="Calibri"/>
              </a:rPr>
              <a:t>(example of a “flipped” less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563920" cy="360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111480" y="692280"/>
            <a:ext cx="60166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267920"/>
            <a:ext cx="86630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Prepare in pairs for a balanced deba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can we do about the gender imbalance?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ke notes abou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blem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sons for these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In small groups, have a formal deb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5292720" y="2997360"/>
            <a:ext cx="362124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 the same groups, write a letter to the United Na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e the problems,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clude and explain your bar graphs, 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ggest poss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lution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826240" y="4437000"/>
            <a:ext cx="29160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Learner preparation for the less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Rea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 Easier English article “No girls”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gir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(and list) all the problem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Read the original article, by clicking on the link at the bottom – or here: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girls-not-allowed-keynote/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e down 3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ew word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 phra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atch this youtube clip on how to draw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bar graph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ww.youtube.com/watch?v=0q_9VmQZu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413000"/>
            <a:ext cx="8362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0000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discuss artic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70c0"/>
                </a:solidFill>
                <a:latin typeface="Calibri"/>
              </a:rPr>
              <a:t>Read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bout solu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2d050"/>
                </a:solidFill>
                <a:latin typeface="Calibri"/>
              </a:rPr>
              <a:t>Vocabular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teach each ot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7030a0"/>
                </a:solidFill>
                <a:latin typeface="Calibri"/>
              </a:rPr>
              <a:t>Numeracy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bar 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deb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: a group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discus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hat are the problem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from the text you rea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58680" y="3716280"/>
            <a:ext cx="4067280" cy="2376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421956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4219560" y="3500280"/>
            <a:ext cx="47260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are these problems? And </a:t>
            </a:r>
            <a:r>
              <a:rPr b="1" lang="en-GB" sz="4000" spc="-1" strike="noStrike" u="sng">
                <a:solidFill>
                  <a:srgbClr val="000000"/>
                </a:solidFill>
                <a:uFillTx/>
                <a:latin typeface="Calibri"/>
              </a:rPr>
              <a:t>why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do they exist?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nfantic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egl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ex-selective abor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ffic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hild marri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Kidnap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Violen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ang r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en without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e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raditional view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are the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solution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think of / predict some solutions, then rea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The_girls_are_ba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 find more solution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ster readers can then read the original to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http://newint.org/features/2013/10/01/the-girls-are-back-in-tow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6084720" y="3357720"/>
            <a:ext cx="27021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) In groups,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ompa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vocabulary / phrases you found from the texts before the less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Explain / discus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meanings, and look at them in the texts (in both the original and the Easier English artic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) Each group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res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3 new words / phrases to the cla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78360" y="4653000"/>
            <a:ext cx="296712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umerac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does this graph sh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814320" y="2357280"/>
            <a:ext cx="6249960" cy="38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groups, make a bar chart to show this information 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50560" y="1916280"/>
            <a:ext cx="8569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Normally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5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are born for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 But because of all the change,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7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is now the world average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China is the worst, they have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8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born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; India has a national average of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1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. Azerbaijan, has about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16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boys to every </a:t>
            </a:r>
            <a:r>
              <a:rPr b="1" lang="en-GB" sz="3800" spc="-1" strike="noStrike">
                <a:solidFill>
                  <a:srgbClr val="c00000"/>
                </a:solidFill>
                <a:latin typeface="Calibri"/>
              </a:rPr>
              <a:t>100</a:t>
            </a:r>
            <a:r>
              <a:rPr b="0" lang="en-GB" sz="3800" spc="-1" strike="noStrike">
                <a:solidFill>
                  <a:srgbClr val="000000"/>
                </a:solidFill>
                <a:latin typeface="Calibri"/>
              </a:rPr>
              <a:t> girls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3" descr=""/>
          <p:cNvPicPr/>
          <p:nvPr/>
        </p:nvPicPr>
        <p:blipFill>
          <a:blip r:embed="rId1"/>
          <a:stretch/>
        </p:blipFill>
        <p:spPr>
          <a:xfrm>
            <a:off x="6753240" y="714240"/>
            <a:ext cx="19256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2T15:11:36Z</dcterms:created>
  <dc:creator>Linda Ruas</dc:creator>
  <dc:description/>
  <dc:language>en-US</dc:language>
  <cp:lastModifiedBy>Linda Ruas</cp:lastModifiedBy>
  <dcterms:modified xsi:type="dcterms:W3CDTF">2013-11-02T22:35:56Z</dcterms:modified>
  <cp:revision>15</cp:revision>
  <dc:subject/>
  <dc:title>No more girls</dc:title>
</cp:coreProperties>
</file>